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126-CFCE-407C-80FB-25E0B82BC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19DC-7EB5-416A-A1E9-41D7D53FBD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34A9-5D5E-424C-A028-4525DBE03F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BC9B-8213-4D91-8943-ADD0871396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A700-69D3-4A69-BC4A-318AEC67D9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AE88-AAF3-4E39-818A-CA62C49E2A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3E95-2D71-4111-AAB4-3DB662F68D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193-24A5-418B-8613-9B5EEA9C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3E2-71FC-47E6-BE66-AA11B77C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774-BD8E-43CE-82CC-D01E0F9A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A7B-6AE6-4652-B80E-180C13CB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BAEA9-EC08-4BE7-9352-2AF0FA01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9FFBC-527A-4CC4-97A6-FC06B71E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0B716-7B46-4BD1-A6FA-33DA0D80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3BF8E-E67F-4D11-9E76-861EA0BE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D2097-96D6-4C0E-8483-D30D7ABE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D9491-C736-4470-8AF4-DF2CBE2D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C193C-09BC-480E-A051-28C60CEE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AB4-68BE-48AB-81EB-07E19DB5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19969-3F66-44D4-8B62-8DA1136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625D0-D851-4DA4-AFDE-D2FE4AE9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22D7C-8793-43A8-8107-91D715D8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E6CE3-363B-494C-8A82-BDBC2651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09D0A-A37D-41A3-ACCA-1CE1482A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E32-F6C8-4721-9EB0-5B0CCA8A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5D4-83A1-45B6-A212-FE498250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AC2-FCC4-4EBA-81FD-F3233584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458-A18A-41ED-A972-3062BE64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46F-F0EB-4895-AF7F-2238A7AC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F20-0FE9-4F89-8EDE-59652D92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E82-EE50-4380-82F1-88489248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97F5-3B70-4C3E-8985-FD2C30B98F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13D7-49E6-4611-BFB9-74EFEC5575F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ahoma"/>
              </a:rPr>
              <a:t>the portfolio extens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riting the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portfolio extension rep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iterion N (analysis of interview/s – easier if two interviews can be compare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iterion O (reflection on interview applied to the portfolio – compare portfolio and interview/s and highlight new relationship/idea/perspective arising from the compari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iterion P (implications/recommendations arising from the synthesis of the interview and the portfolio in O – student’s own opinion on the ‘future’ of the issue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ny candidates used much of section N to “introduce” the issue and the intervi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does not add to the discussion and is ignored for assessment purpo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t is recommended that a preliminary, short section is used for this purpos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use the heading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rite no more than 100 wor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tate briefly the issue, and the stakeholders, as identified in criterion C or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tate the interviewee(s), and justify the qualification as a stakehol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100 words will not count as part of the 1000 word maximum count. Anything over 100 words in the introduction WILL cou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Discussion/analysis of the inter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summary of the interview scores z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nimum level of discussion for 1 mar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 least 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two key poi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re identified in own wo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hort quotes/references from the interview as 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supporting exampl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for each 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xt level (2 marks) also has some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s at least the two key points and examples, as ab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grouping, contrasting/compar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of vie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is clearly much easier with better intervie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ighest level (3 marks) shows a depth of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explaining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he nature of the contrasts/comparisons, group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 least one supporting example for each key point explained as ab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second interview could make this easi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93116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Reflection on the interview, with respect to the portfolio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reflection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MUST connect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the interview(s) to the original portfolio resear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interview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must be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compared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with the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portfolio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at the basic 1 mark level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Tahoma"/>
              </a:rPr>
              <a:t>where did they agree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Tahoma"/>
              </a:rPr>
              <a:t>where did they differ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supportive example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from the interview(s)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AND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portfolio raises the mark to 2 –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explicit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paraphrases or quot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For 3 marks, “extensive” reflection is needed. Usually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at least three different comparisons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with supportive examples from interview(s)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AND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portfol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For the highest mark of 4, a new “relationship” or new idea the student has learnt from the comparison and is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NOT mentioned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in the interview(s) or portfolio must be established/explained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‘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After comparing the interview(s) and the original portfolio my understanding of the issue/impacts/solutions is NOW changed/improved ……………….’</a:t>
            </a:r>
            <a:r>
              <a:rPr b="0" i="1" lang="en-GB" sz="1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 different or changed perception of the importance/nature of an impact mentioned in the portfolio or interview(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 new appreciation of the side effect or evaluation of a possible solu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 new solution not considered in the portfolio piece or interview(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projection of broader implic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is should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not be a summary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f what has already been said and is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not a conclu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t is the opportunity to look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beyon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what has been already said with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original thinking about the ‘future’ of the issue –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t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least two implication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should be discussed or at least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two detailed aspects of 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student should give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his/her own opinion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‘In my opinion I think that …………….’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opinion can be abo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aspects/effect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of the issue/solutions that have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not so far been foreseen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in the previous criteria, interview(s) or portfol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future implication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for the situation involving the issue and the issue itsel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recommendations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for the futu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evaluations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f the  repercussions if the problem/s are solved or not solv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o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not repeat materia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from previous criteria, the portfolio or interview(s) unless in support of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your opin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ll of these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MUST be grounded securely with supportive exampl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from both interviews 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portfolio – specific references and quo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3:37:50Z</dcterms:created>
  <dc:creator>John Oldfield</dc:creator>
  <dc:description/>
  <dc:language>en-US</dc:language>
  <cp:lastModifiedBy>pienaark</cp:lastModifiedBy>
  <dcterms:modified xsi:type="dcterms:W3CDTF">2010-07-13T06:51:19Z</dcterms:modified>
  <cp:revision>15</cp:revision>
  <dc:subject/>
  <dc:title>ITGS portfolios and extensions</dc:title>
</cp:coreProperties>
</file>